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A6B-B3B4-408F-B544-14A8D96F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335-3840-4D05-B949-C940961D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647-B572-4480-80A9-C8EE2E48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7D-F4A0-43F1-886F-9F0E70ED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4B1-566F-47A6-8C75-D415BED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373-5FE1-4FFC-8769-98C532FE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7EC-404D-4FFB-BC91-C41FD74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2E9-7D37-4AAC-9888-E2CF360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AD2-BC57-44E4-B4B2-BC1C1E76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89A-545A-4B6B-A99B-0EB2C4C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F04-9382-49B5-A12B-3E27339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BD8-AADD-43C2-AF44-320BD42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BAA-A733-44D5-A1C9-8BA6FDD6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240" y="380520"/>
            <a:ext cx="70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on 4.2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Using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the Order of Operations with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5480" y="152388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peate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28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2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443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962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086600" cy="192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4191120" cy="642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412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1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9480" y="45360"/>
            <a:ext cx="72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certain star is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ght-years from Ea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light- years is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5257800" cy="99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7391160" cy="731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907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(5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*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               * substitute the values for th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6386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(-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(-8) +6                      * Simplify using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 + 6 = 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31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x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3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276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352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6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4724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272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419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184   #2 – 34 every other even and p.185 #56 – 66 e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9:03:18Z</dcterms:created>
  <dc:creator>Susannah Graham</dc:creator>
  <dc:description/>
  <dc:language>en-US</dc:language>
  <cp:lastModifiedBy>grahams</cp:lastModifiedBy>
  <dcterms:modified xsi:type="dcterms:W3CDTF">2011-12-14T14:33:48Z</dcterms:modified>
  <cp:revision>4</cp:revision>
  <dc:subject/>
  <dc:title>Homework to do in groups: p. 203 # 2 – 34 every other even </dc:title>
</cp:coreProperties>
</file>